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15E-9778-4C72-801D-2563A098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C3C-343D-4825-B4AF-4226549F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E1DC6-56BE-4756-A0FD-1707363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92BE-D967-48C8-8FAB-EF600B1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818C-DE6A-44B1-9466-F5721EDC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A12E8-1D27-4CFA-967E-441FD81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268BB-2B54-4847-B109-89652CE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10232-B50F-452C-8195-DA16CC1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7A8E9-D33A-4D6D-ADC4-A4BC88C9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C8B1-8DEA-4350-8130-7832FD04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E0E6-0718-4F30-9DC7-3FAB5983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12E29-A71F-445D-9991-EC8DD308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C02-6470-4611-AD01-BC638B8F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03BB4-FD19-443A-949C-7A0DDC6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8554F-18E6-4FEF-9254-D008FF90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F8D17-35A4-42F7-899A-4239028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A4A9-8712-4A9C-AFCC-1435DD9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C9222-BDD7-4BF3-AB07-3CD7220D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F42D3-B65F-4806-B7FF-CAD8E14F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9AA01-3D71-436F-87DD-DC070CC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18C10-9B56-451C-AC8A-F544874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9EF80-2AB9-4160-A3C7-3B6000F2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02362-B2A9-485B-8BA3-68E52CE6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616-5357-4E28-81E7-8D05AAFA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3474F-357C-447A-9A1E-0E7B374F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78F8-4E2B-4B81-A6DF-B5873BB7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88CB-9066-4838-B17F-D8D0BB7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7E41F-AB58-4985-BDAB-F86000D6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59B87-8297-4910-BCEC-CC69027D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879A-ADED-407F-A2A7-40D8ECB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D601-6274-446E-8E8F-3F0F473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18C06-0C8C-47B5-ACB9-5C43480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8978B-2A7E-4D82-AC8F-BA09B8C2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C2120-D309-4125-93DE-5D93F10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2F3B-93A3-4926-AD3F-E1507782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8C371-6A16-4786-811D-DF1A16B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784B5-63FB-46CD-957E-9960ED19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F557-BACA-4D18-9A23-3CC9B780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9919E-25DA-4F58-9152-21E43DB0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B2CBC-A123-4618-8F99-6B2873B5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DEBD7-46E8-44FB-94B2-2D6BA899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7040B-7598-4B58-8A89-DE09B215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19E34-1FF9-4254-B1BE-F5DBCF1A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90B4D-03E8-4284-A42C-FE1E0225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3D848-7974-4E44-9C0E-04E9386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7C07-2EC0-4A06-8516-A7139F9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35E0-6BC5-447F-A862-5DFFCF2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2B03E-C088-4574-9499-4E323C8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DF4FB-9A80-4562-89DD-8DBA285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02AF5-C6DE-4E6C-ADEE-A241E41C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B6586-5777-4ADF-B66D-7A4A18A7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A66B9-4E47-4905-9B53-DB4C6433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387F3-323C-43E6-BDE6-C6949F4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3056B-60BC-408E-8121-C686C730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1D590-D643-4E11-92A1-00724A51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E4BD8-1FEE-4DDA-BAE2-EDC8824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29B-8089-40AE-AF13-329AA81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E5215-F9A9-4304-AAB7-9FAB79B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0176F-D9E4-48DA-8B15-8022C1E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DF110-0776-4005-A627-D558C86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3E48E-15D3-4BD6-8DDA-ADEF424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0F5D3-4230-4E26-BB27-9F743AA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3E7DA-7138-43F8-9FF0-595366B7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C76E6-7B49-4A34-9C07-A6C26065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F2ADA-98A4-421A-97A9-2BAEDE21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5A656-5943-4589-8DAC-E3B84D88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8C538-2FFD-46B2-B6D4-3F48BC8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D042-38A9-4CEC-9DDB-4FAF81F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BE30E-12B1-4E0B-BD3E-E2033BB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B0A9D-57C7-40B6-8084-63658D1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D255D-85DF-4F21-81DE-A1E0EF2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2BDFC-CF72-43AF-BF48-F09DF56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B3435-1325-4167-9B6E-49AE3DD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7A52D-3B9D-425D-AD0D-38ECF84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4C419-EA4C-49AE-979E-2F06F3F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F9FBB-6569-473B-80EF-F6C5EDAC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C903A-E2E6-49C2-AC61-AD461B33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6E211-1258-4422-A6DF-69E0752A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BF6E-5D31-4F6F-9A2F-24C273B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9A98A-418B-4B39-8830-1257876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F7FDF-EEC2-4944-A7D4-25CA222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EA33E-8292-45EF-829E-FD4A3FE9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F1FAC-1404-4512-A3EA-F152F21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379AC-A04D-46F2-813F-713D8A33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67B35-A067-40AB-BF7A-0F81B5E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18372-CFF9-4C06-8737-F92B7BB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07557-AE74-46D2-BB0E-40228AC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E074B-A2B4-4755-903B-1BA265D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C06C0-324D-4692-8C61-07A77D2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4B85-9D95-43F3-9F44-C53AFA0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56634-9011-44D5-8D55-9EC4543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92F87-57B0-4474-8EA8-3D3C5603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DF64D-F7B2-451F-B1DA-18739BE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1FEC3-3214-45F3-B926-AA063D4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482ED-67C2-4907-A675-ACA43D8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F6C7E-B19C-4157-9E0B-334E212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143A2-9175-42E5-BB4E-0172DCC6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D1809-445B-45BD-A177-2E55450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BBC98-629A-45E6-966F-9A6DE15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1F16C-7C69-4E1F-B236-2B58C698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A5F-E89A-4182-8111-82CEC8C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CB318-137B-4609-8013-818B0EC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7A9E0-5FE2-4E1C-9611-99E2A5C7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9CC13-1928-4014-9FCF-D1511173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E1583-5E34-4460-9491-FFB3A852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55161-34A6-4F6A-92F7-654DC63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A8926-CCE0-49AE-91ED-7A1DF07F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902E8-28F4-4051-94EF-85BF357F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56435-576F-4692-A591-2A45D5D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85D06-BC8D-4B1D-9AD6-93D3B426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320B7-3287-4658-A0D4-41415A0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07B-FFA1-4088-861D-A3CEB08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120A-E4AB-4F50-AEC7-B179913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6D855-30C7-448E-9936-D1D3F85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09563-28D8-465B-A2EC-D3577FA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F6870-535C-49B6-A987-E0BBF42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6CAFB-C569-41CB-A3BC-551FA13C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1DBE1-EE7F-440A-85AB-33B604F0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52E91-7EC8-4A05-8EFA-EA29F21A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14845-7A6E-45B9-BEC5-FBC0D44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E20C9-9225-4B32-897D-19CBDF3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35D51-A261-4098-AF7E-37E55BD7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5321E-F52F-41AC-8AF7-CEAC6F7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0880-F1BB-490C-B323-99E8993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F039C-9E35-44C6-A006-4DA3E90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FC1E8-DBCE-4841-ABDE-AEC070E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BED79-C57A-469B-B154-5B32FDE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4223F-C894-4832-9ACE-6AA86512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5786C-60A4-4BCE-B59B-4C078BB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8BADF-4EF0-45D4-B60D-BF3B8F42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77972-117B-4F09-ACA3-2BD08778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74768-2C48-46F8-96EB-43EED4C5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21AE6-0492-4B2D-A009-EB1EBDC7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C4AD5-751C-4F4F-B7AA-FB452993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DA5B-33C2-4525-AC9D-90D74D1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A1700-D9BC-4336-BE08-66492F5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4BF56-5734-41CA-85D4-08E25976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8B154-E9EB-4924-9CAF-922C31E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F3F9F-DE30-4D7F-9267-063A21B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ED458-BDD4-4A86-A6A7-C3E3AE3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206C0-0B9F-4213-84B1-F0813F4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BDA71-2073-4F71-9268-5B17B48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97D63-A98A-42BB-AC6D-9E9A6D24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3B31C-235D-4D60-9CFD-65B552EE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0895C-57BF-4A19-8A7B-73640FE3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3E72-0871-4A69-81FC-9F7C0B50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0BB2B-FC18-457D-B0E6-343AD844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B99AB-D65B-49CC-AD49-7711916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D5242-E182-4474-8693-98A020E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6F204-5183-4389-BA1A-340108FD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94C6F-6C46-4462-BF2D-5C24152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0B27A-1F84-4445-A40A-A0BC2E7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61E81-89D1-4737-8E7C-42BA932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67E42-AE59-4FAE-8A69-C0E1D58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5E122-FD3E-4973-8252-1B439A9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616DE-4EBD-496E-B968-EEF46F11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45D-96EA-4CBC-9D45-CC6C4E73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E0E57-4C75-4182-A53D-DEB0FF67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0D683D-61B2-48B3-88AF-09D75398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28E9A-2470-4F9A-BBA9-D41EC0E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5F26C-C33C-4106-86C5-EB6CB4B1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AF779-F543-40FF-B545-036270F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09ABB-99C4-43A1-9D24-E9A3BEF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2B7E0-A253-4466-88BC-1794E09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65678-96F8-4947-B933-73DEBD4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05262-BD26-49A0-A88D-E25EB266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77285-C769-48A0-83AC-0ED7E5D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B048-BE0F-450A-B3E9-0F88273E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783A2-E9E0-448D-9E5A-FC54FAD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8AAB5-295F-4A46-B8DF-9E7BB060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D03D3-3FD6-4613-9846-729497C5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EC3A-DFED-4D2B-81DE-E76EA142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718D-61EA-416F-9060-8D1FF017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7421-3B42-4C66-A4B6-F0175A8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92DB-E74C-44C0-8A35-CBBA8F8A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333-70F3-4F39-AE78-7277754F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26F9-1F4D-42D9-874F-D2A6FDC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9601-63EE-40CE-81AE-617AA3A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9DE5-4C71-4FBB-A18B-2E62514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1048-E0B0-4E27-8D19-CD85151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91AE-7E54-4AB8-A90A-8B6D211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C8DC-1786-412B-83CC-9766533C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EE93-0014-4FFB-B683-31A7CF49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AD7B-31DC-4874-AAFD-7D2D7992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1919-0BB3-4D09-BFCD-62D231E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48A8A-08F2-40C7-AE27-AF5A37C5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9C6-AC7D-44CA-844A-B786494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652E-4523-4E3F-9B9B-63A2ACAD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FFD6-EE3C-44AA-8A9E-D37498E7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4880-2853-47D0-ADF6-A23ADB2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17A7-0D25-4B45-AC12-603AB9C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78E2-EFA1-404C-A5C7-F957AB0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7767-7423-48C3-8390-42C62D4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7192-DEA6-42D8-B032-BC22070E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BA0D-AA57-41ED-AC63-A990B7F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FF7C-555A-441C-8B68-06078066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0862-D437-496A-A5A6-6A575D9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229-E26D-40B3-8DF9-37994E0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AF456-E087-49F1-B088-467A0C2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7AA6-5E70-43BC-B621-E94045C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262F-100A-44EA-8562-E7676078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58DA-B062-464F-9AF1-C8069A44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64B7-72B9-40F0-8DDC-8455746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1C92F-844C-43DE-951A-D03A5AB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0F4D-BE40-4115-B6B2-E12B176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5BC2-8E0D-49F2-A0B7-46B155C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FFD8-AC65-4757-A2BA-2DE1A7CA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0632-643D-4BCF-9945-0D33913C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42B-4CFF-4A96-9569-C3A84635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93BB7-7FCC-4349-A9B5-D732CD2E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6C2AB-5F04-40D0-B7F3-A44AC928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C6F73-B86F-4111-AE78-AA2F89B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34E31-6B8F-42C4-95B8-264F9B1E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E56B-25B8-4219-A8D3-AEA49A7A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73FDD-40C0-44FE-B402-87C10F7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8E13-5DC4-443E-BA51-7ACBD68D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FDC1-1E20-4D60-9764-BCAC90F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7E1D0-2C1A-4AB0-8973-B750065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A5FB5-F64B-4EC2-A1BC-85A280F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A35-B062-4B79-BB50-8692D79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4C45-B55E-488C-BF75-CEC56D4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373C-1DD8-448C-8B0E-CD851E8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EDC2-2F71-46AF-A583-FC375A47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37D4F-418D-40E9-89C7-D59DDB58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2C5F-124B-496B-AFE1-607AEECC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9B533-5E12-4009-9D2B-1910E82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26A4-7982-4E3B-B908-7616C1F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4A85-2141-4F6D-A7BD-4F2A344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F093-77B7-4633-BFB2-D993A29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FB85-62A0-45AB-9DED-CDFC94B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47A-30EC-4645-ACC3-6454FCF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8962-6E22-41B7-85DD-4EFEBCC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1B1A-2C88-4ACC-B11A-5DE3B77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97A1-C614-40B5-A3B4-47E9239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0D8A-59B5-4B62-8AA3-588E323B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6015-C4D3-4F9A-8451-7A82C9FB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C356-0B41-45B2-8C00-1424C7E7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045D-BD55-48AC-8858-01565AB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422D-EA11-4171-91CA-D6DD084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6723-29E2-41BE-8736-A911E530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AC74-4419-48A3-8F9B-F0E26E0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574-0188-4469-BE9A-F630C37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538E-4A1B-4BE4-B476-8732B34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52D1-3216-4413-B5FE-AC368C0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E124E-799E-427F-99AA-6C20888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DB1A4-1AB0-4016-82D4-9A68719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74DE-8A6A-4CBF-BDC0-6821154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F5F6-00E6-46B9-956D-34E131B3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8CF2-4D09-4DBE-B469-0689E4F4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C9D4A-718C-412F-AB8B-45990762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0F846-775B-47BF-8BA5-CCD4959E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A32E9-4BF9-46CE-AEC8-ABE226D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DEE3-0DF9-47BD-9E92-6B5E9634F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0D85-28B5-462F-9D3F-74D615675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E49-664E-4EB7-8524-459D64D56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FBB7-1766-42D1-A756-A86E63CF9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F754-8CC3-49F1-B7FB-30C7100A3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6FF-800B-4F29-98DD-4194DA8EE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0C57-5FD8-447D-A2B2-249D4D15D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C355-6DD1-4D89-B053-5AABC3A32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238-8D9C-4E2D-B9FC-50361FEB6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F67F-65D6-492D-AB2D-1C2D91208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9770-96F4-4F43-8018-5ACB6F2C28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F0C-675A-4837-B927-A1DC89F4C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DCA-438B-4073-971B-4C830E6A3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CA7-5D05-4AA7-90C3-B573DC4E34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C598-9653-489B-BA28-86D24DF7D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B142-ED52-4C57-A561-E0C377184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05FF-030C-4EB3-9600-2519D491F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CBD-59E9-43C9-9AF5-14704F226C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5A0-5F57-4885-85DC-01EA9D677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683-A389-46F0-B4F3-2E55FCEDE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DE88-F8C7-4C6A-91E0-8C48F50101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CBF-42E3-4A04-8164-90E7C9BE1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50D0-622C-4E2A-AF0E-F34B5FE25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3A9-276D-4912-B3B1-2E7504185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3EE-241A-43D1-AE40-84F20E202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6C6-1EB5-4BD8-B090-683FFCABF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D75-83A3-462A-B557-5080FA633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4FF-0A39-423A-B70E-6F93D35F82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F28-D6F8-4E67-ADDB-A609DD8A4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7C5-1181-4D1D-837A-82D586E87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71E-CEDF-45D7-A7A5-A89E98924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AFB0-970D-4F64-A4EF-49CC41464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26F3-D0CB-4B06-8F0D-F58356A83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FC17-AA99-4E00-A63A-895DA01E2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9E8-8C3B-49C2-B817-2C7B35164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569-34C2-4035-BE24-39F77FDF7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1D8-2928-48CB-A7B5-0BC4D9D47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586-2F74-4220-A364-325726311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C7BC-2895-4F3A-BC55-251F200466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498-8FA0-4A3A-9DD1-78B300562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43200" y="3176640"/>
            <a:ext cx="54576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5680" y="1019160"/>
            <a:ext cx="8972640" cy="4819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067280" y="226692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76720" y="264636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659640" y="264636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042920" y="305928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003400" y="342900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19640" y="344808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526080" y="3448080"/>
            <a:ext cx="64800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7188120" y="3859200"/>
            <a:ext cx="1676520" cy="1162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971640" y="508464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2411280" y="5084640"/>
            <a:ext cx="43200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851280" y="508464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364000" y="5084640"/>
            <a:ext cx="43200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956720" y="5075280"/>
            <a:ext cx="647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114480" y="2019240"/>
            <a:ext cx="8915400" cy="281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556000" y="2900520"/>
            <a:ext cx="1800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716360" y="2900520"/>
            <a:ext cx="180036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020000" y="2905200"/>
            <a:ext cx="180000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565360" y="3701880"/>
            <a:ext cx="180036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754520" y="3697200"/>
            <a:ext cx="180036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6742080" y="3697200"/>
            <a:ext cx="1800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2124000" y="4508640"/>
            <a:ext cx="122400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3708360" y="4508640"/>
            <a:ext cx="122400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5364000" y="4508640"/>
            <a:ext cx="1224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190440" y="1281240"/>
            <a:ext cx="8763120" cy="4295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547640" y="406728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8375" descr=""/>
          <p:cNvPicPr/>
          <p:nvPr/>
        </p:nvPicPr>
        <p:blipFill>
          <a:blip r:embed="rId3"/>
          <a:stretch/>
        </p:blipFill>
        <p:spPr>
          <a:xfrm>
            <a:off x="611280" y="2722680"/>
            <a:ext cx="1552320" cy="1228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11280" y="4456080"/>
            <a:ext cx="18730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39640" y="4869000"/>
            <a:ext cx="144000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8378" descr=""/>
          <p:cNvPicPr/>
          <p:nvPr/>
        </p:nvPicPr>
        <p:blipFill>
          <a:blip r:embed="rId6"/>
          <a:stretch/>
        </p:blipFill>
        <p:spPr>
          <a:xfrm>
            <a:off x="3002040" y="2727360"/>
            <a:ext cx="1552320" cy="1228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3976560" y="405288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2978280" y="4465800"/>
            <a:ext cx="1873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2709720" y="484992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8382" descr=""/>
          <p:cNvPicPr/>
          <p:nvPr/>
        </p:nvPicPr>
        <p:blipFill>
          <a:blip r:embed="rId10"/>
          <a:stretch/>
        </p:blipFill>
        <p:spPr>
          <a:xfrm>
            <a:off x="5451480" y="2732040"/>
            <a:ext cx="1552680" cy="1228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1"/>
          <a:stretch/>
        </p:blipFill>
        <p:spPr>
          <a:xfrm>
            <a:off x="6362640" y="40622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2"/>
          <a:stretch/>
        </p:blipFill>
        <p:spPr>
          <a:xfrm>
            <a:off x="5364000" y="4465800"/>
            <a:ext cx="144144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3"/>
          <a:stretch/>
        </p:blipFill>
        <p:spPr>
          <a:xfrm>
            <a:off x="8388360" y="227664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4"/>
          <a:stretch/>
        </p:blipFill>
        <p:spPr>
          <a:xfrm>
            <a:off x="8513640" y="2637000"/>
            <a:ext cx="43200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5"/>
          <a:stretch/>
        </p:blipFill>
        <p:spPr>
          <a:xfrm>
            <a:off x="8388360" y="301608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6"/>
          <a:stretch/>
        </p:blipFill>
        <p:spPr>
          <a:xfrm>
            <a:off x="8504280" y="337644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7"/>
          <a:stretch/>
        </p:blipFill>
        <p:spPr>
          <a:xfrm>
            <a:off x="8604360" y="374508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8"/>
          <a:stretch/>
        </p:blipFill>
        <p:spPr>
          <a:xfrm>
            <a:off x="8613720" y="4124160"/>
            <a:ext cx="43200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9"/>
          <a:stretch/>
        </p:blipFill>
        <p:spPr>
          <a:xfrm>
            <a:off x="8642520" y="450864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0"/>
          <a:stretch/>
        </p:blipFill>
        <p:spPr>
          <a:xfrm>
            <a:off x="8772480" y="4859280"/>
            <a:ext cx="32400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1"/>
          <a:stretch/>
        </p:blipFill>
        <p:spPr>
          <a:xfrm>
            <a:off x="8604360" y="5238720"/>
            <a:ext cx="323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5:1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